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40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e Coming of Wa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1344600" y="2193840"/>
            <a:ext cx="76978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The Coming of War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panish concessions 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"Remember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Ma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!"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ngress recognizes Cuban independence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panish declaration of war; United States follows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Grace</cp:lastModifiedBy>
  <dcterms:modified xsi:type="dcterms:W3CDTF">2015-10-25T03:01:4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